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34FE-5600-4122-8B8A-98C139A9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76CC-CD7C-4E13-AF61-2120F8A1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E9B9A-CC19-4CE1-88B4-7B422C55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3798-D32E-4A90-916C-1F4BBEB9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93A8-4BAC-409C-8F65-39913F60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42DC-7E86-4245-885A-8933D2C1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4EA7-98AA-4C38-8F95-F81105BF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4D00-6007-4F79-9226-BDA08019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43BA-C405-4A26-A566-CB881748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092E-56BD-483C-9827-A2074AB9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E13E-F28F-4966-BFBF-C64F0719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5D9AB-B9F6-48A8-97C4-B81EF740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E5D9-7165-43CD-B71E-28B05C85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BE85-DF78-4B7F-8C3A-05B9292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AB21-CA92-47B1-B18D-8C821463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9668-E53E-4E78-B2B2-23DBE6AF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D47C-A1B6-41C5-8F97-956F3C0E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50BE-0807-445D-B30D-B6044F08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9FA6-E9E6-44F7-920E-7AFBC2B4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243EA-57C9-418A-B2CD-8191B1F2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E103-B56C-4E0F-B6D8-E3B427B6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B3F9-75DB-48E7-94D4-A7F47B65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7978-84E0-4B81-AB8B-BBA866FF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6FCE3-583A-4710-B1A5-E262F964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3DD5-253E-4B3D-9765-E7F41FAE381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8D1F-C4C7-4554-A3EA-5E1E31C1CE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Tahoma"/>
              </a:rPr>
              <a:t>Александр Сергеевич Грибоедов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790 или 1795 – 182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73400" y="219060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4764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68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68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Гибель в Персии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 время визита принца Аббаса-Мирзы Грибоедов погиб: 30 января (11 февраля) 1829 года (6 шаабана 1244 года хиджры) толпа религиозных фанатиков разгромила русскую дипломатическую миссию, и все её члены были убиты, кроме секретаря Мальцо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Символ любви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ло Грибоедова доставлено в Тифлис и погребено на горе Мтацминда в гроте при церкви Святого Дави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могиле вдова Нина Чавчавадзе поставила ему памятник с надписью: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«Ум и дела твои бессмертны в памяти русской, но для чего пережила тебя любовь моя?»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50920" y="3213000"/>
            <a:ext cx="5113440" cy="32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Итог урока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очему  имя Грибоедова осталось в памяти русского народа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Домашнее задание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читать комедию «Горе от ума»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сьменно ответить на вопрос 2 ко всему тексту комедии (с. 14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Детство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ибоедов родился в Москве в обеспеченной родовитой семь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ец — Сергей Иванович Грибоедов (1761—1814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свидетельству родственников, в детстве Грибоедов был очень сосредоточен и необыкновенно разви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827360"/>
            <a:ext cx="4038480" cy="407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Юный студент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лександр Сергеевич окончил словесное отделение философского факультета Московского университет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если верна самая поздняя дата рождения, — 1795, — то Грибоедов был «вундеркиндом», окончившим университет в 15 лет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1808 году получил звание кандидата словесных наук, но не оставил учебу, а поступил на этико-юридическое отделение, а потом на физико-математический факультет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319068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84960" y="2276640"/>
            <a:ext cx="2225520" cy="420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68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68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1812 год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етом 1812 г., во время Отечественной войны 1812 года Грибоедов вступил в Московский гусарский полк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4824720" cy="323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1815 Грибоедов приезжает в Петербург, знакомится и сближается с кружком «младших архаистов», где он почерпнул идею создания национального искусства, стремление к высокости и естественности стил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1817 служил в Коллегии иностранных дел в Петербурге; в это время познакомился с Пушкины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517840" cy="3168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48360" y="3941640"/>
            <a:ext cx="2658960" cy="255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Служба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 1818 секретарь русской миссии в Тегеране, с 1822 в Тифлисе секретарём по дипломатической части при командующем русскими войсками А. П. Ермолов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январе 1826 арестован в крепости Грозная по подозрению к принадлежности к декабристам; был привезён в Петербург и сумел доказать непринадлежность к тайному обществ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5280" y="3713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436920" cy="415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68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68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Комедия «Горе от ума»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умана в Петербурге около 1816 года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ончена в Тифлисе в 1824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ончательная редакция — авторизованный список, оставленный в Петербурге у Булгарина — 1828 го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04840" y="1600200"/>
            <a:ext cx="2741760" cy="4530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Дипломат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759640" cy="395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ентябре 1826 вернулся в Тифлис и продолжил дипломатическую деятельность; принял участие в заключении выгодного для России Туркманчайского мирного договора (1828) и доставил его текст в Петербург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6588000" y="3573360"/>
            <a:ext cx="720720" cy="86364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68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68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Миг счастья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значен министром-резидентом (послом) в Иран; по пути на место назначения вновь провёл несколько месяцев в Тифлис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женился там на княжне Нине Чавчавадзе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очери начальника Эриванской области и грузинского поэта Александра Чавчавадз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690640" cy="3845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1855800" cy="280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68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68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4:30:12Z</dcterms:created>
  <dc:creator>Бузмакова Елена Васильевна</dc:creator>
  <dc:description/>
  <dc:language>en-US</dc:language>
  <cp:lastModifiedBy>Бузмакова Елена Васильевна</cp:lastModifiedBy>
  <dcterms:modified xsi:type="dcterms:W3CDTF">2009-10-19T06:16:38Z</dcterms:modified>
  <cp:revision>3</cp:revision>
  <dc:subject/>
  <dc:title>Александр Сергеевич Грибоедов</dc:title>
</cp:coreProperties>
</file>